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AA5-F28E-4DC1-AEC4-815C834F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D25-77F3-4FB4-8C83-86EB17E7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29F-9D90-421D-A5E3-536D56BB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76D-A5BB-4AFC-AC1B-E0CD835F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FA3-7E2B-4449-A46B-EB386D19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FD6-E12C-4D3E-994E-E793F19F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442-D360-4A8C-9D73-7D2DB1F3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CD8-039A-4BFD-BF58-AE935528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8EF-E04F-4F50-8131-5A7E9FEC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17C-F10C-4A97-842F-A4B0806C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825-F704-4F29-A651-165D2529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80A-77DF-49B5-BA33-5B6FDF04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B377-B5BE-4736-BCB4-EF9DDC06B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0/0b/Fate-animal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3/39/Kandinsky_whit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2743200" y="990720"/>
            <a:ext cx="391968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Exotc350 Bd BT"/>
              </a:rPr>
              <a:t>Earl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Exotc350 Bd BT"/>
              <a:ea typeface="Exotc350 Bd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Exotc350 Bd BT"/>
              </a:rPr>
              <a:t>Moder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Exotc350 Bd BT"/>
              <a:ea typeface="Exotc350 Bd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Exotc350 Bd BT"/>
              </a:rPr>
              <a:t>Ar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Exotc350 Bd BT"/>
              <a:ea typeface="Exotc350 Bd BT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752480" y="5334120"/>
            <a:ext cx="6019920" cy="825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s. Susan M. Pojer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orace Greeley HS    Chappaqua, 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029200" y="534960"/>
            <a:ext cx="3733920" cy="19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Henri Matiss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Carmelina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0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876920" y="36576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AU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Carmelina"/>
          <p:cNvPicPr/>
          <p:nvPr/>
        </p:nvPicPr>
        <p:blipFill>
          <a:blip r:embed="rId1"/>
          <a:stretch/>
        </p:blipFill>
        <p:spPr>
          <a:xfrm>
            <a:off x="304920" y="304920"/>
            <a:ext cx="4311360" cy="6248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6" name="Text Box 8"/>
          <p:cNvSpPr/>
          <p:nvPr/>
        </p:nvSpPr>
        <p:spPr>
          <a:xfrm>
            <a:off x="5257800" y="4343400"/>
            <a:ext cx="3581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use of intense colors in a violent, and uncontrolled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d Beas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28600" y="2590920"/>
            <a:ext cx="3429000" cy="19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Henri Matiss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Open Window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05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Open Window, Collioure"/>
          <p:cNvPicPr/>
          <p:nvPr/>
        </p:nvPicPr>
        <p:blipFill>
          <a:blip r:embed="rId1"/>
          <a:stretch/>
        </p:blipFill>
        <p:spPr>
          <a:xfrm>
            <a:off x="3767040" y="304920"/>
            <a:ext cx="4996080" cy="6172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6320" y="228600"/>
            <a:ext cx="89913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eorges Braque: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Violin &amp; Candlestick  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10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braque"/>
          <p:cNvPicPr/>
          <p:nvPr/>
        </p:nvPicPr>
        <p:blipFill>
          <a:blip r:embed="rId1">
            <a:lum contrast="6000"/>
          </a:blip>
          <a:srcRect l="4288" t="4587" r="4288" b="3256"/>
          <a:stretch/>
        </p:blipFill>
        <p:spPr>
          <a:xfrm>
            <a:off x="533520" y="1371600"/>
            <a:ext cx="4081320" cy="502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Rectangle 6"/>
          <p:cNvSpPr/>
          <p:nvPr/>
        </p:nvSpPr>
        <p:spPr>
          <a:xfrm>
            <a:off x="5486400" y="1828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UB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952880" y="2611440"/>
            <a:ext cx="38862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subject matter is broken down, analyzed, and reassembled in abstrac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zann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 artist should treat nature in terms of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the cylinder, the sphere, and the c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85800" y="2286000"/>
            <a:ext cx="3581280" cy="295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eorges Braqu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Woman with a Guitar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1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Braque"/>
          <p:cNvPicPr/>
          <p:nvPr/>
        </p:nvPicPr>
        <p:blipFill>
          <a:blip r:embed="rId1"/>
          <a:stretch/>
        </p:blipFill>
        <p:spPr>
          <a:xfrm>
            <a:off x="4952880" y="228600"/>
            <a:ext cx="3691080" cy="6477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2280" y="30492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eorges Braque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Still Life: LeJeur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 (1929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Still-Life, Le Jour"/>
          <p:cNvPicPr/>
          <p:nvPr/>
        </p:nvPicPr>
        <p:blipFill>
          <a:blip r:embed="rId1"/>
          <a:stretch/>
        </p:blipFill>
        <p:spPr>
          <a:xfrm>
            <a:off x="1257480" y="1247760"/>
            <a:ext cx="6667200" cy="5153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52280" y="152280"/>
            <a:ext cx="838224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Pablo Picasso: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Les Demoiselles d’Avignon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 (1907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Les Demoiselles d'Avign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7920" y="914400"/>
            <a:ext cx="5403600" cy="5638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52280" y="22860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Picasso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Studio with Plaster Head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 (1925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picasso19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9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562720" y="2041560"/>
            <a:ext cx="3352680" cy="243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Pablo Picasso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Woman with a</a:t>
            </a:r>
            <a:br>
              <a:rPr sz="3400"/>
            </a:b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Flower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3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Woman with a Flower"/>
          <p:cNvPicPr/>
          <p:nvPr/>
        </p:nvPicPr>
        <p:blipFill>
          <a:blip r:embed="rId1"/>
          <a:stretch/>
        </p:blipFill>
        <p:spPr>
          <a:xfrm>
            <a:off x="304920" y="304920"/>
            <a:ext cx="4941720" cy="632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52280" y="15228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Paul Klee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Red &amp; White Domes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(191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domes"/>
          <p:cNvPicPr/>
          <p:nvPr/>
        </p:nvPicPr>
        <p:blipFill>
          <a:blip r:embed="rId1"/>
          <a:srcRect l="4328" t="2753" r="1742" b="2728"/>
          <a:stretch/>
        </p:blipFill>
        <p:spPr>
          <a:xfrm>
            <a:off x="2057400" y="914400"/>
            <a:ext cx="5168880" cy="548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52280" y="21276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Paul Klee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Senecio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(192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Paul Klee. Senecio."/>
          <p:cNvPicPr/>
          <p:nvPr/>
        </p:nvPicPr>
        <p:blipFill>
          <a:blip r:embed="rId1"/>
          <a:stretch/>
        </p:blipFill>
        <p:spPr>
          <a:xfrm>
            <a:off x="2133720" y="914400"/>
            <a:ext cx="5027400" cy="556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2280" y="289080"/>
            <a:ext cx="89917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be0e3"/>
                </a:solidFill>
                <a:latin typeface="Exotc350 Bd BT"/>
              </a:rPr>
              <a:t>Themes in Early Modern 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905120" y="1693800"/>
            <a:ext cx="5943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ncertainty/insecurity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illusionment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subconscious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vert sexuality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iolence &amp; savag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457200"/>
            <a:ext cx="3581640" cy="19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eorge Gros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Grey Day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2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George Grosz. Grey Day."/>
          <p:cNvPicPr/>
          <p:nvPr/>
        </p:nvPicPr>
        <p:blipFill>
          <a:blip r:embed="rId1"/>
          <a:stretch/>
        </p:blipFill>
        <p:spPr>
          <a:xfrm>
            <a:off x="4343400" y="304920"/>
            <a:ext cx="4324320" cy="632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9" name="Rectangle 5"/>
          <p:cNvSpPr/>
          <p:nvPr/>
        </p:nvSpPr>
        <p:spPr>
          <a:xfrm>
            <a:off x="838080" y="2971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4920" y="3657600"/>
            <a:ext cx="38862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idiculed contemporary culture &amp; traditional art 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collapse during WW I of social and moral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ihili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5334120" y="685800"/>
            <a:ext cx="3352680" cy="554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eorge Grosz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Daum Marries Her Pedantic Automaton</a:t>
            </a:r>
            <a:br>
              <a:rPr sz="3400"/>
            </a:b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George in May, 1920, John Heartfield is Very Glad of II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19-1920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George Grosz. Daum Marries Her Pedantic Automaton George in May 1920, John Heartfield is Very Glad of It."/>
          <p:cNvPicPr/>
          <p:nvPr/>
        </p:nvPicPr>
        <p:blipFill>
          <a:blip r:embed="rId1"/>
          <a:stretch/>
        </p:blipFill>
        <p:spPr>
          <a:xfrm>
            <a:off x="352440" y="304920"/>
            <a:ext cx="4371840" cy="6248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1981080"/>
            <a:ext cx="3581280" cy="295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eorge Gros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The Pillars</a:t>
            </a:r>
            <a:br>
              <a:rPr sz="3400"/>
            </a:b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of Society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26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George Grosz. The Pillars of Society."/>
          <p:cNvPicPr/>
          <p:nvPr/>
        </p:nvPicPr>
        <p:blipFill>
          <a:blip r:embed="rId1"/>
          <a:stretch/>
        </p:blipFill>
        <p:spPr>
          <a:xfrm>
            <a:off x="4876920" y="228600"/>
            <a:ext cx="3394080" cy="632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80880" y="228600"/>
            <a:ext cx="86108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Raoul Hausmann: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ABCD  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24-25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3I00468"/>
          <p:cNvPicPr/>
          <p:nvPr/>
        </p:nvPicPr>
        <p:blipFill>
          <a:blip r:embed="rId1"/>
          <a:stretch/>
        </p:blipFill>
        <p:spPr>
          <a:xfrm>
            <a:off x="2819520" y="1143000"/>
            <a:ext cx="3676680" cy="530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80880" y="228600"/>
            <a:ext cx="86108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Marcel Duchamp: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Fountain  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17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dchmp_fntn_low"/>
          <p:cNvPicPr/>
          <p:nvPr/>
        </p:nvPicPr>
        <p:blipFill>
          <a:blip r:embed="rId1"/>
          <a:stretch/>
        </p:blipFill>
        <p:spPr>
          <a:xfrm>
            <a:off x="2666880" y="1143000"/>
            <a:ext cx="3934080" cy="5262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33520" y="2286000"/>
            <a:ext cx="3352680" cy="347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Marcel Duchamp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Nude Descending a Staircase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1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nude_no2"/>
          <p:cNvPicPr/>
          <p:nvPr/>
        </p:nvPicPr>
        <p:blipFill>
          <a:blip r:embed="rId1"/>
          <a:stretch/>
        </p:blipFill>
        <p:spPr>
          <a:xfrm>
            <a:off x="4648320" y="228600"/>
            <a:ext cx="3862440" cy="637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52280" y="152280"/>
            <a:ext cx="899172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Salvador Dali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Soft Construction with Boiled Beans (Premonition of Civil War),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19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FLO_1_td21dali1_207706_0221"/>
          <p:cNvPicPr/>
          <p:nvPr/>
        </p:nvPicPr>
        <p:blipFill>
          <a:blip r:embed="rId1"/>
          <a:stretch/>
        </p:blipFill>
        <p:spPr>
          <a:xfrm>
            <a:off x="304920" y="1676520"/>
            <a:ext cx="457200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3" name="Rectangle 5"/>
          <p:cNvSpPr/>
          <p:nvPr/>
        </p:nvSpPr>
        <p:spPr>
          <a:xfrm>
            <a:off x="5791320" y="169056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urre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105520" y="2286000"/>
            <a:ext cx="38862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te 1920s-1940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me from the nihilistic genre of D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fluenced by Feud’s theories on psychoanalysis and the subconsci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fusing &amp; startling images like those in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152280"/>
            <a:ext cx="91440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Salvador Dali: </a:t>
            </a:r>
            <a:br>
              <a:rPr sz="3400"/>
            </a:b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The Persistence of Memory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(193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The_Persistence_of_Memory"/>
          <p:cNvPicPr/>
          <p:nvPr/>
        </p:nvPicPr>
        <p:blipFill>
          <a:blip r:embed="rId1"/>
          <a:stretch/>
        </p:blipFill>
        <p:spPr>
          <a:xfrm>
            <a:off x="1066680" y="1371600"/>
            <a:ext cx="7086600" cy="5143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80880" y="152280"/>
            <a:ext cx="84582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Salvador Dali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The Apparition of the Face and Fruit Dish on a Beach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 (1938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Dali-1938---Apparition-of-F"/>
          <p:cNvPicPr/>
          <p:nvPr/>
        </p:nvPicPr>
        <p:blipFill>
          <a:blip r:embed="rId1"/>
          <a:srcRect l="0" t="0" r="0" b="4668"/>
          <a:stretch/>
        </p:blipFill>
        <p:spPr>
          <a:xfrm>
            <a:off x="1295280" y="1371600"/>
            <a:ext cx="6629400" cy="5151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80880" y="152280"/>
            <a:ext cx="84582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Salvador Dali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Geopoliticus Child Watching the Birth of a New Man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 (194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Dali-1943---Geopoliticus-Ch"/>
          <p:cNvPicPr/>
          <p:nvPr/>
        </p:nvPicPr>
        <p:blipFill>
          <a:blip r:embed="rId1"/>
          <a:srcRect l="0" t="0" r="0" b="4000"/>
          <a:stretch/>
        </p:blipFill>
        <p:spPr>
          <a:xfrm>
            <a:off x="1523880" y="1357200"/>
            <a:ext cx="6096240" cy="5272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2280" y="21276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Edvard Munch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The Scream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(189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The Scream"/>
          <p:cNvPicPr/>
          <p:nvPr/>
        </p:nvPicPr>
        <p:blipFill>
          <a:blip r:embed="rId1">
            <a:lum contrast="6000"/>
          </a:blip>
          <a:srcRect l="1785" t="0" r="1723" b="0"/>
          <a:stretch/>
        </p:blipFill>
        <p:spPr>
          <a:xfrm>
            <a:off x="457200" y="928800"/>
            <a:ext cx="4173480" cy="57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7" name="Rectangle 4"/>
          <p:cNvSpPr/>
          <p:nvPr/>
        </p:nvSpPr>
        <p:spPr>
          <a:xfrm>
            <a:off x="5181480" y="22240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xpress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029200" y="297036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ing bright colors to express a particular e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52280" y="22860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Walter Gropius:  Bauhaus Building (1928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020_Dessau%20Bauhaus"/>
          <p:cNvPicPr/>
          <p:nvPr/>
        </p:nvPicPr>
        <p:blipFill>
          <a:blip r:embed="rId1"/>
          <a:srcRect l="0" t="0" r="0" b="6382"/>
          <a:stretch/>
        </p:blipFill>
        <p:spPr>
          <a:xfrm>
            <a:off x="3886200" y="1143000"/>
            <a:ext cx="4800600" cy="3370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Rectangle 5"/>
          <p:cNvSpPr/>
          <p:nvPr/>
        </p:nvSpPr>
        <p:spPr>
          <a:xfrm>
            <a:off x="533520" y="169056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u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2438280"/>
            <a:ext cx="84582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utopian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sed on the ideal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simplified form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unadorn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nctional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belief that the machine economy could deliver elegantly designed items for the m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d techniques &amp; materials employed especially in industrial fabrication &amp; manufactur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teel, concrete, chrome, 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28908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Walter Gropius:  Lincoln, MA house (1938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lincoln-v"/>
          <p:cNvPicPr/>
          <p:nvPr/>
        </p:nvPicPr>
        <p:blipFill>
          <a:blip r:embed="rId1"/>
          <a:stretch/>
        </p:blipFill>
        <p:spPr>
          <a:xfrm>
            <a:off x="914400" y="1143000"/>
            <a:ext cx="7620120" cy="5118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2280" y="22860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Franz Marc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Animal Destinies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(191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800px-Fate-anima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990720"/>
            <a:ext cx="7620120" cy="5600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52280" y="13644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Wassily Kandinsky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On White II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(192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493px-Kandinsky_wh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38480" y="847800"/>
            <a:ext cx="4695840" cy="570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914400" y="685800"/>
            <a:ext cx="34290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ustav Klimt: </a:t>
            </a:r>
            <a:br>
              <a:rPr sz="3400"/>
            </a:b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Judith I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 (190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14400" y="2819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cessi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Judith I"/>
          <p:cNvPicPr/>
          <p:nvPr/>
        </p:nvPicPr>
        <p:blipFill>
          <a:blip r:embed="rId1"/>
          <a:stretch/>
        </p:blipFill>
        <p:spPr>
          <a:xfrm>
            <a:off x="4975200" y="228600"/>
            <a:ext cx="3102120" cy="6400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685800" y="3524400"/>
            <a:ext cx="3886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rupt the conservative values of Viennese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essed with the 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n is a sexual being, leaning toward des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5105520" y="2346480"/>
            <a:ext cx="3276360" cy="19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ustav Klimt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Wrogie sily 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0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gustav_klimt_wrogie_sily_1902"/>
          <p:cNvPicPr/>
          <p:nvPr/>
        </p:nvPicPr>
        <p:blipFill>
          <a:blip r:embed="rId1"/>
          <a:srcRect l="0" t="0" r="1542" b="3235"/>
          <a:stretch/>
        </p:blipFill>
        <p:spPr>
          <a:xfrm>
            <a:off x="914400" y="228600"/>
            <a:ext cx="3614760" cy="6477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80880" y="228600"/>
            <a:ext cx="86108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ustav Klimt: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The Kiss  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07-8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The Kiss"/>
          <p:cNvPicPr/>
          <p:nvPr/>
        </p:nvPicPr>
        <p:blipFill>
          <a:blip r:embed="rId1"/>
          <a:stretch/>
        </p:blipFill>
        <p:spPr>
          <a:xfrm>
            <a:off x="2133720" y="990720"/>
            <a:ext cx="4997160" cy="5610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80880" y="228600"/>
            <a:ext cx="86108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ustav Klimt: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Danae  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07-8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Danae"/>
          <p:cNvPicPr/>
          <p:nvPr/>
        </p:nvPicPr>
        <p:blipFill>
          <a:blip r:embed="rId1"/>
          <a:stretch/>
        </p:blipFill>
        <p:spPr>
          <a:xfrm>
            <a:off x="1752480" y="990720"/>
            <a:ext cx="5791320" cy="554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4:57:46Z</dcterms:created>
  <dc:creator>Ms. Susan M. Pojer</dc:creator>
  <dc:description/>
  <dc:language>en-US</dc:language>
  <cp:lastModifiedBy>admin</cp:lastModifiedBy>
  <dcterms:modified xsi:type="dcterms:W3CDTF">2013-04-12T12:42:53Z</dcterms:modified>
  <cp:revision>22</cp:revision>
  <dc:subject/>
  <dc:title>Early Modern Art</dc:title>
</cp:coreProperties>
</file>